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5d5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4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5"/>
          </p:nvPr>
        </p:nvSpPr>
        <p:spPr>
          <a:xfrm>
            <a:off x="388584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55C6-54A4-46DE-B3C2-3F22EE17E1A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FA2A-B5B7-441D-B6F4-BD6AA1556596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3F6E-2659-4E38-836E-A2A33829574D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liennummernplatzhalt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880F-2E88-4872-82E2-705AD3D569FA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723920"/>
            <a:ext cx="50292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rankheitsbedingte Verhaltensänderungen (früher geübte Arten der Konfliktbewältigung stehen nicht mehr zur Verfügung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liennummernplatzhalter 3"/>
          <p:cNvSpPr/>
          <p:nvPr/>
        </p:nvSpPr>
        <p:spPr>
          <a:xfrm>
            <a:off x="38862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5D88-75D3-4131-A73B-E6CEA52FC492}" type="slidenum">
              <a:rPr b="0" lang="de-DE" sz="1200" spc="-1" strike="noStrike">
                <a:solidFill>
                  <a:srgbClr val="56565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837CD-8DC3-4E84-954A-DD93004C04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5E315-86B6-47EA-9E65-8A15EFE7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895E-D499-44F1-BE65-E8CC30CA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69252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A0CC7-32AD-460E-8C28-98F2091C86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AB8D0-0B41-4DA1-AFA1-C0CBDCE0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C83A-517E-430B-B94E-8F03332F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58EF-1DC7-4981-BF45-2FA20E5A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694D-FFA9-41C4-BABC-CB7CC5FF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E2776-51F0-4750-A884-73F3DED6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76B5-3148-48F4-8562-1431C24B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69252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A68EB-35F6-424D-AFD2-907F4B20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5d5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69252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64E8B-8ABB-47BD-8654-8E715D543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" name="Rectangle 29"/>
          <p:cNvSpPr/>
          <p:nvPr/>
        </p:nvSpPr>
        <p:spPr>
          <a:xfrm>
            <a:off x="7696080" y="0"/>
            <a:ext cx="685800" cy="685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2" name="Rectangle 31"/>
          <p:cNvSpPr/>
          <p:nvPr/>
        </p:nvSpPr>
        <p:spPr>
          <a:xfrm>
            <a:off x="8458200" y="0"/>
            <a:ext cx="685800" cy="685800"/>
          </a:xfrm>
          <a:prstGeom prst="rect">
            <a:avLst/>
          </a:prstGeom>
          <a:solidFill>
            <a:srgbClr val="0067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3" name="Rectangle 32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019920" y="6552720"/>
            <a:ext cx="1752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7848720" y="6552720"/>
            <a:ext cx="12189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40C5-0520-42A2-B50E-424D5732FE26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38" descr="typo-Alter-1-1"/>
          <p:cNvPicPr/>
          <p:nvPr/>
        </p:nvPicPr>
        <p:blipFill>
          <a:blip r:embed="rId2"/>
          <a:stretch/>
        </p:blipFill>
        <p:spPr>
          <a:xfrm>
            <a:off x="5486400" y="304920"/>
            <a:ext cx="2057400" cy="279360"/>
          </a:xfrm>
          <a:prstGeom prst="rect">
            <a:avLst/>
          </a:prstGeom>
          <a:ln w="0">
            <a:noFill/>
          </a:ln>
        </p:spPr>
      </p:pic>
      <p:sp>
        <p:nvSpPr>
          <p:cNvPr id="7" name="Text Box 40"/>
          <p:cNvSpPr/>
          <p:nvPr/>
        </p:nvSpPr>
        <p:spPr>
          <a:xfrm>
            <a:off x="152280" y="65833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Veranstaltung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" name="Text Box 41"/>
          <p:cNvSpPr/>
          <p:nvPr/>
        </p:nvSpPr>
        <p:spPr>
          <a:xfrm>
            <a:off x="3733920" y="6583320"/>
            <a:ext cx="190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08080"/>
                </a:solidFill>
                <a:latin typeface="Arial"/>
              </a:rPr>
              <a:t>Name</a:t>
            </a:r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" name="Rectangle 43"/>
          <p:cNvSpPr/>
          <p:nvPr/>
        </p:nvSpPr>
        <p:spPr>
          <a:xfrm>
            <a:off x="0" y="685800"/>
            <a:ext cx="9144000" cy="5867280"/>
          </a:xfrm>
          <a:prstGeom prst="rect">
            <a:avLst/>
          </a:prstGeom>
          <a:solidFill>
            <a:srgbClr val="f0ef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next.uni-wuppertal.de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CC48-357F-4243-A71F-9DB4F5921AE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4" name="Rectangle 5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5" name="Text Box 52"/>
          <p:cNvSpPr/>
          <p:nvPr/>
        </p:nvSpPr>
        <p:spPr>
          <a:xfrm>
            <a:off x="2971800" y="57913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56" name="Rectangle 55"/>
          <p:cNvSpPr/>
          <p:nvPr/>
        </p:nvSpPr>
        <p:spPr>
          <a:xfrm>
            <a:off x="4800600" y="2133720"/>
            <a:ext cx="1828800" cy="1828800"/>
          </a:xfrm>
          <a:prstGeom prst="rect">
            <a:avLst/>
          </a:prstGeom>
          <a:solidFill>
            <a:srgbClr val="ffa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57" name="Picture 57" descr="frau-kopf"/>
          <p:cNvPicPr/>
          <p:nvPr/>
        </p:nvPicPr>
        <p:blipFill>
          <a:blip r:embed="rId1"/>
          <a:stretch/>
        </p:blipFill>
        <p:spPr>
          <a:xfrm>
            <a:off x="281952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8" descr="mann-frontal"/>
          <p:cNvPicPr/>
          <p:nvPr/>
        </p:nvPicPr>
        <p:blipFill>
          <a:blip r:embed="rId2"/>
          <a:stretch/>
        </p:blipFill>
        <p:spPr>
          <a:xfrm>
            <a:off x="480060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63"/>
          <p:cNvSpPr/>
          <p:nvPr/>
        </p:nvSpPr>
        <p:spPr>
          <a:xfrm>
            <a:off x="2819520" y="4114800"/>
            <a:ext cx="1828800" cy="1828800"/>
          </a:xfrm>
          <a:prstGeom prst="rect">
            <a:avLst/>
          </a:prstGeom>
          <a:solidFill>
            <a:srgbClr val="006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0" name="Picture 66" descr="typo-Alter-1-1"/>
          <p:cNvPicPr/>
          <p:nvPr/>
        </p:nvPicPr>
        <p:blipFill>
          <a:blip r:embed="rId3"/>
          <a:stretch/>
        </p:blipFill>
        <p:spPr>
          <a:xfrm>
            <a:off x="2819520" y="685800"/>
            <a:ext cx="3809880" cy="5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6DE6-4C7C-4AEB-8605-CEA2C22D9D37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4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9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6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Grenzen setzen im Pflegeallta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C423-89F3-4AE4-85E4-B8DA52AE64D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109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10" name="Textfeld 7"/>
          <p:cNvSpPr/>
          <p:nvPr/>
        </p:nvSpPr>
        <p:spPr>
          <a:xfrm>
            <a:off x="785880" y="1951200"/>
            <a:ext cx="792936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Baer, U./ Frick-Baer, G./ Alandt, G. (2014): Wenn alte Menschen aggressiv werden. Demenz und Gewalt – Rat für Angehörige und Pflegende. 2. Aufl. Beltz: Weinheim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Bellzett (2013): Praxisleitfaden. &gt;MädchenStärken&lt; - Gewaltprävention und Persönlichkeitsstärkung für Mädchen. 2. Auflage. Bielefeld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Görgen, T.; Herbst, S.; Rabold, S. (2005): Kriminalitäts- und Gewaltgefährdungen im höheren Lebensalter und in der häuslichen Pflege, KFN: Hannover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Simon, M.;Tackenberg, P.; Hasselhorn, H.-M./ Kümmerling, A. et al. (2005): Auswertung der ersten Befragung der NEXT-Studie in Deutschland.  Universität Wuppertal. Verfügbar unter </a:t>
            </a:r>
            <a:r>
              <a:rPr b="0" lang="de-DE" sz="1100" spc="-1" strike="noStrike" u="sng">
                <a:solidFill>
                  <a:srgbClr val="565555"/>
                </a:solidFill>
                <a:uFillTx/>
                <a:latin typeface="Arial"/>
                <a:hlinkClick r:id="rId2"/>
              </a:rPr>
              <a:t>http://www.next.uni-wuppertal.de</a:t>
            </a: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  <a:p>
            <a:pPr marL="182520" indent="-95040"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65656"/>
                </a:solidFill>
                <a:latin typeface="Arial"/>
              </a:rPr>
              <a:t>Von Hirschberg, K.-R.; Kähler, B. (2009): Gewalt und Aggression in der Pflege Gewalt und Aggression in der Pflege. - Ein Kurzüberblick -  Berufsgenossenschaft für Gesundheitsdienst und Wohlfahrtspflege – BGW: Hamburg.</a:t>
            </a:r>
            <a:endParaRPr b="0" lang="en-US" sz="11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1" name="Textfeld 8"/>
          <p:cNvSpPr/>
          <p:nvPr/>
        </p:nvSpPr>
        <p:spPr>
          <a:xfrm>
            <a:off x="6000840" y="661176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12" name="Textfeld 5"/>
          <p:cNvSpPr/>
          <p:nvPr/>
        </p:nvSpPr>
        <p:spPr>
          <a:xfrm>
            <a:off x="2643120" y="714240"/>
            <a:ext cx="392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Literatur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8A9F-9C8B-482E-9D74-CFDFD1851239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2" name="Picture 13" descr="swpf-logo"/>
          <p:cNvPicPr/>
          <p:nvPr/>
        </p:nvPicPr>
        <p:blipFill>
          <a:blip r:embed="rId1"/>
          <a:stretch/>
        </p:blipFill>
        <p:spPr>
          <a:xfrm>
            <a:off x="228600" y="76320"/>
            <a:ext cx="685800" cy="55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05_NRW_MGEPA_CMYK_Fsrder_b"/>
          <p:cNvPicPr/>
          <p:nvPr/>
        </p:nvPicPr>
        <p:blipFill>
          <a:blip r:embed="rId2"/>
          <a:stretch/>
        </p:blipFill>
        <p:spPr>
          <a:xfrm>
            <a:off x="1219320" y="130320"/>
            <a:ext cx="1676160" cy="479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5"/>
          <p:cNvSpPr/>
          <p:nvPr/>
        </p:nvSpPr>
        <p:spPr>
          <a:xfrm>
            <a:off x="250920" y="1327320"/>
            <a:ext cx="8424720" cy="29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679d"/>
                </a:solidFill>
                <a:latin typeface="Arial"/>
              </a:rPr>
              <a:t>Eigene Grenzen erkennen und setz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65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6" name="Picture 24" descr="WiWaLogo_4c"/>
          <p:cNvPicPr/>
          <p:nvPr/>
        </p:nvPicPr>
        <p:blipFill>
          <a:blip r:embed="rId3"/>
          <a:stretch/>
        </p:blipFill>
        <p:spPr>
          <a:xfrm>
            <a:off x="0" y="5400720"/>
            <a:ext cx="2556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DEA4-DACA-434B-BD16-C4275EB7AB9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68" name="Picture 2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1285920" y="78588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d5d5d"/>
                </a:solidFill>
                <a:latin typeface="Arial"/>
              </a:rPr>
              <a:t>Gliederung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785880" y="1995480"/>
            <a:ext cx="7056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125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Aggression gegenüber Pflegenden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  <a:p>
            <a:pPr marL="361800" indent="-361800">
              <a:spcBef>
                <a:spcPts val="1125"/>
              </a:spcBef>
              <a:buClr>
                <a:srgbClr val="56565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565656"/>
                </a:solidFill>
                <a:latin typeface="Arial"/>
              </a:rPr>
              <a:t>Übungen zum Thema „Eigene Grenzen erkennen und setzen“</a:t>
            </a:r>
            <a:endParaRPr b="0" lang="en-US" sz="18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1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7ADC-2746-4084-953A-86D8DCC6799E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73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74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50920" y="26398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Erfahrungen mit Grenzüberschreitung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800280" y="185688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Pflegekräfte sind ‐ nach Sicherheitskräften ‐ die am meisten durch Gewalt bedrohte Berufsgruppe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69% der Professionellen in Alten- und Pflegeheimen berichten, dass sie sehr häufig mit aggressiven und/oder unfreundlichen Patienten konfrontiert sind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Jede vierte (26%) Pflegekraft in Alten- oder Pflegeheimen sagt sogar, sie sei immer mit solchen Patienten konfrontiert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77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8B26-1007-41E6-8FF0-79513B00820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78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79" name="Textfeld 6"/>
          <p:cNvSpPr/>
          <p:nvPr/>
        </p:nvSpPr>
        <p:spPr>
          <a:xfrm>
            <a:off x="1000080" y="773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Aggressionen gegen Pflegende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0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1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Simon, M. et al. (2005) 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5800" y="150012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Erfahrungen in den letzten 12 Monaten: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45% beleidig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44% beschimpf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16,5% sexuell belästig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16,5% grob angefass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14,2% gekratz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12% gestoß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7,1% gespuckt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6,4% mit Faust geschla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3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95546-792A-436F-A73D-FEA672658EE1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84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85" name="Textfeld 6"/>
          <p:cNvSpPr/>
          <p:nvPr/>
        </p:nvSpPr>
        <p:spPr>
          <a:xfrm>
            <a:off x="1000080" y="773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Pflegekräftebefragung 2005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6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7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Görgen, T. et al. (2005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85800" y="150012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Krankheitsbedingte Verhaltensänderungen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Fehlende Lebensqualität, Unzufriedenheit, Hadern mit dem eigenen Schicksal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Starke Abhängigkeit und fehlende Selbstbestimmung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Hilflosigkeit, Angst, Verzweiflung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Freiheitsentzug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edikamente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Milieu, z.B. Reizüberflutung, Unruhe, etc.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Zurückliegende traumatische Erfahrungen 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65656"/>
                </a:solidFill>
                <a:latin typeface="Arial"/>
              </a:rPr>
              <a:t>Altersunabhängiges Gewaltpotential: altgewordene Täter</a:t>
            </a:r>
            <a:endParaRPr b="0" lang="en-US" sz="2000" spc="-1" strike="noStrike">
              <a:solidFill>
                <a:srgbClr val="565656"/>
              </a:solidFill>
              <a:latin typeface="Arial"/>
            </a:endParaRPr>
          </a:p>
          <a:p>
            <a:pPr lvl="1" marL="365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365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365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365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  <a:p>
            <a:pPr lvl="1" marL="3650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89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D2D3-03A2-43F5-AF2B-3AAAF9A92533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0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91" name="Textfeld 6"/>
          <p:cNvSpPr/>
          <p:nvPr/>
        </p:nvSpPr>
        <p:spPr>
          <a:xfrm>
            <a:off x="1000080" y="77328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565656"/>
                </a:solidFill>
                <a:latin typeface="Arial"/>
              </a:rPr>
              <a:t>Mögliche Ursach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2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3" name="Textfeld 5"/>
          <p:cNvSpPr/>
          <p:nvPr/>
        </p:nvSpPr>
        <p:spPr>
          <a:xfrm>
            <a:off x="2714760" y="6091200"/>
            <a:ext cx="618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65656"/>
                </a:solidFill>
                <a:latin typeface="Arial"/>
                <a:ea typeface="ヒラギノ角ゴ Pro W3"/>
              </a:rPr>
              <a:t>Von Hirschberg, R.-R.; Kähler, B. (2009)</a:t>
            </a:r>
            <a:endParaRPr b="0" lang="en-US" sz="8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E7BB-4FF9-4247-BCE1-DA8CF8BB39C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5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96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50920" y="2639880"/>
            <a:ext cx="84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Umgang mit Grenzüberschreitung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liennummernplatzhalter 3"/>
          <p:cNvSpPr/>
          <p:nvPr/>
        </p:nvSpPr>
        <p:spPr>
          <a:xfrm>
            <a:off x="7848720" y="655308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FBF8-2D79-4863-BC31-7A58229D689C}" type="slidenum">
              <a:rPr b="0" lang="de-DE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65656"/>
              </a:solidFill>
              <a:latin typeface="Arial"/>
            </a:endParaRPr>
          </a:p>
        </p:txBody>
      </p:sp>
      <p:pic>
        <p:nvPicPr>
          <p:cNvPr id="99" name="Picture 5" descr="WiWaLogo_4c"/>
          <p:cNvPicPr/>
          <p:nvPr/>
        </p:nvPicPr>
        <p:blipFill>
          <a:blip r:embed="rId1"/>
          <a:stretch/>
        </p:blipFill>
        <p:spPr>
          <a:xfrm>
            <a:off x="0" y="0"/>
            <a:ext cx="1600200" cy="70344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9"/>
          <p:cNvSpPr/>
          <p:nvPr/>
        </p:nvSpPr>
        <p:spPr>
          <a:xfrm>
            <a:off x="1760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1" name="Textfeld 8"/>
          <p:cNvSpPr/>
          <p:nvPr/>
        </p:nvSpPr>
        <p:spPr>
          <a:xfrm>
            <a:off x="6000840" y="6643800"/>
            <a:ext cx="292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565656"/>
                </a:solidFill>
                <a:latin typeface="Arial"/>
              </a:rPr>
              <a:t>© Alter und Trauma – Unerhörtem Raum geben</a:t>
            </a:r>
            <a:endParaRPr b="0" lang="en-US" sz="1000" spc="-1" strike="noStrike">
              <a:solidFill>
                <a:srgbClr val="565656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250920" y="263988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000"/>
                </a:solidFill>
                <a:latin typeface="Arial"/>
              </a:rPr>
              <a:t>Übung: Grenzen erkennen und setzen</a:t>
            </a:r>
            <a:endParaRPr b="0" lang="en-US" sz="3600" spc="-1" strike="noStrike">
              <a:solidFill>
                <a:srgbClr val="56565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7T15:18:52Z</dcterms:created>
  <dc:creator>Anja Richter</dc:creator>
  <dc:description/>
  <dc:language>en-US</dc:language>
  <cp:lastModifiedBy>Wilwasser</cp:lastModifiedBy>
  <dcterms:modified xsi:type="dcterms:W3CDTF">2016-05-17T07:12:19Z</dcterms:modified>
  <cp:revision>232</cp:revision>
  <dc:subject/>
  <dc:title>PowerPoint-Präsentation</dc:title>
</cp:coreProperties>
</file>